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292-40F6-460A-8E52-427D5D3E21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478-D819-4DF8-9899-5319780529B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 Földet bejárt mottó jelentése, hogy legalább olyan minőségben vagyunk kötelesek továbbadni gyermekeinknek környezetünket, mint, ahogyan mi kapt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FCD0-0AB2-4957-8852-722C4FDB6F2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be vesznek bennünket 4,6 milliárd év alatt kialakult, önmagukkal, és egymással rendkívül érzékeny egyensúlyban lévő ökoszisztémák, melyek feltételei annak, hogy lélegezhessünk, hogy táplálkozzunk, hogy szomjunkat olthassuk, egyszóval hogy éljünk. E környezeti elemek nélkül 1 percet sem tudnánk eltölteni é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6EA3-A401-481A-8135-32510127863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478E-488D-474A-A435-8D7BBA2915A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FD31-6F06-48F5-951A-F5613D27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16D-7735-4824-AA42-8ADEF8BC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2A1-84BC-4C66-909C-A838701F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D13-874B-41B8-9A76-582BC5D2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46BD-7F37-4CE1-970E-6146413D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6948-F6E7-46F9-AB6E-CA7ACDB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F8F-5ABB-456C-9A8B-F0C730F3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877-5341-4D12-AE1E-C12391CA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6F93-6585-46AA-8BC9-B7DA7D3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4106-4281-444A-B1F7-8BB8B93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1CA1-D149-41D3-A491-C4163BF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53D8-CA55-4945-8ACF-90D6B8E7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C57-2FCF-4FC6-8293-C61EB1E5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925-278E-4866-A7A6-4B987802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0DA8-96A4-41E6-BBAD-AC4145F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3FD6-821E-49FB-BCEA-E433C24A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5060-6478-4E82-8865-929A96D0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101-23FF-407E-BF2A-F87AEF10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4A4-6AEB-40AC-8098-1711E963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330-C3D7-40D5-9C46-2087FACD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CB0-FD42-4523-8132-16EA7E5E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BA9-8072-4BCE-92FC-72A8C32D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D329-3F0E-4D98-8627-40ACDAA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888-6C83-4858-8DF3-ADF3736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E58C-4B7C-4409-9B3A-5D5E759F3D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C930-FF78-4C7B-8214-37AA8A35F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10.1.1.2/default.aspx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isoterv.hu/isomikro.html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rnyezetvédelem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8160" y="1341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24720" y="119700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49080" y="587160"/>
            <a:ext cx="82422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FENNTARTHATÓ FOGYASZ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718640"/>
            <a:ext cx="79599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Tudatos vásár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pénzeddel szavazol! Te döntesz mit veszel meg és mit 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szemét a legdrágább, ne vedd meg. Felesleges termék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Helyi, idényjellegű termékeket vegyé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Mennyi műanyagot viszel haza? Válaszd az egyszerűen csomagolt áru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Olvasd el a címkéket! Mit hol, és hogyan gyártott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Tartós használat! Kerüld az eldobható dolg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20360" y="728280"/>
            <a:ext cx="7787520" cy="66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ENERGIATAKARÉKOS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ű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ízhasz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lág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le"/>
          <p:cNvPicPr/>
          <p:nvPr/>
        </p:nvPicPr>
        <p:blipFill>
          <a:blip r:embed="rId1"/>
          <a:stretch/>
        </p:blipFill>
        <p:spPr>
          <a:xfrm>
            <a:off x="485928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zzo"/>
          <p:cNvPicPr/>
          <p:nvPr/>
        </p:nvPicPr>
        <p:blipFill>
          <a:blip r:embed="rId2"/>
          <a:stretch/>
        </p:blipFill>
        <p:spPr>
          <a:xfrm>
            <a:off x="284328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547_gaz_1_k"/>
          <p:cNvPicPr/>
          <p:nvPr/>
        </p:nvPicPr>
        <p:blipFill>
          <a:blip r:embed="rId3"/>
          <a:stretch/>
        </p:blipFill>
        <p:spPr>
          <a:xfrm>
            <a:off x="2843280" y="393372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8"/>
          <p:cNvPicPr/>
          <p:nvPr/>
        </p:nvPicPr>
        <p:blipFill>
          <a:blip r:embed="rId4"/>
          <a:stretch/>
        </p:blipFill>
        <p:spPr>
          <a:xfrm>
            <a:off x="5076720" y="3933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2987640" y="3933720"/>
            <a:ext cx="180036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50_liter_utc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1819080" cy="249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98400" y="3412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SZELEKTÍV GYŰJTÉS, ÚJRAHASZNOSÍ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5" descr="papir"/>
          <p:cNvPicPr/>
          <p:nvPr/>
        </p:nvPicPr>
        <p:blipFill>
          <a:blip r:embed="rId3"/>
          <a:stretch/>
        </p:blipFill>
        <p:spPr>
          <a:xfrm>
            <a:off x="714240" y="17859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muanyaghulladek"/>
          <p:cNvPicPr/>
          <p:nvPr/>
        </p:nvPicPr>
        <p:blipFill>
          <a:blip r:embed="rId4"/>
          <a:stretch/>
        </p:blipFill>
        <p:spPr>
          <a:xfrm>
            <a:off x="3203640" y="184464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785880" y="1428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p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71920" y="3357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űany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57880" y="37148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zelektív hulladékgyűjtés, komposztá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escn0601_400"/>
          <p:cNvPicPr/>
          <p:nvPr/>
        </p:nvPicPr>
        <p:blipFill>
          <a:blip r:embed="rId5"/>
          <a:stretch/>
        </p:blipFill>
        <p:spPr>
          <a:xfrm>
            <a:off x="971640" y="472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akkumulator_5n"/>
          <p:cNvPicPr/>
          <p:nvPr/>
        </p:nvPicPr>
        <p:blipFill>
          <a:blip r:embed="rId6"/>
          <a:stretch/>
        </p:blipFill>
        <p:spPr>
          <a:xfrm>
            <a:off x="2556000" y="5013360"/>
            <a:ext cx="1357200" cy="142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003435"/>
          <p:cNvPicPr/>
          <p:nvPr/>
        </p:nvPicPr>
        <p:blipFill>
          <a:blip r:embed="rId7"/>
          <a:stretch/>
        </p:blipFill>
        <p:spPr>
          <a:xfrm>
            <a:off x="3635280" y="4724280"/>
            <a:ext cx="909720" cy="154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gyogyszer2"/>
          <p:cNvPicPr/>
          <p:nvPr/>
        </p:nvPicPr>
        <p:blipFill>
          <a:blip r:embed="rId8"/>
          <a:stretch/>
        </p:blipFill>
        <p:spPr>
          <a:xfrm>
            <a:off x="457200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908000" y="4292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szélyes hulladé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867280" y="551664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kuka"/>
          <p:cNvPicPr/>
          <p:nvPr/>
        </p:nvPicPr>
        <p:blipFill>
          <a:blip r:embed="rId9"/>
          <a:stretch/>
        </p:blipFill>
        <p:spPr>
          <a:xfrm>
            <a:off x="5508720" y="2060640"/>
            <a:ext cx="266364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7093080" y="4581360"/>
            <a:ext cx="180000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8" descr="uveg"/>
          <p:cNvPicPr/>
          <p:nvPr/>
        </p:nvPicPr>
        <p:blipFill>
          <a:blip r:embed="rId10"/>
          <a:stretch/>
        </p:blipFill>
        <p:spPr>
          <a:xfrm>
            <a:off x="500040" y="2857680"/>
            <a:ext cx="2005200" cy="150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9"/>
          <p:cNvSpPr/>
          <p:nvPr/>
        </p:nvSpPr>
        <p:spPr>
          <a:xfrm>
            <a:off x="192888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Üv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6672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ZELEKTÍV HULLADÉKGYŰJTÉS (PAPÍR, MŰANYAG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0" name="Picture 5" descr="Szelektív2"/>
          <p:cNvPicPr/>
          <p:nvPr/>
        </p:nvPicPr>
        <p:blipFill>
          <a:blip r:embed="rId1"/>
          <a:stretch/>
        </p:blipFill>
        <p:spPr>
          <a:xfrm>
            <a:off x="5292720" y="2060640"/>
            <a:ext cx="1757520" cy="23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zelektív"/>
          <p:cNvPicPr/>
          <p:nvPr/>
        </p:nvPicPr>
        <p:blipFill>
          <a:blip r:embed="rId2"/>
          <a:stretch/>
        </p:blipFill>
        <p:spPr>
          <a:xfrm>
            <a:off x="7093080" y="2060640"/>
            <a:ext cx="1873080" cy="1406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6156360" y="1628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özponti begyűj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1763640" y="1628640"/>
            <a:ext cx="3168360" cy="2520720"/>
            <a:chOff x="1763640" y="1628640"/>
            <a:chExt cx="3168360" cy="2520720"/>
          </a:xfrm>
        </p:grpSpPr>
        <p:pic>
          <p:nvPicPr>
            <p:cNvPr id="184" name="Picture 8" descr="image006"/>
            <p:cNvPicPr/>
            <p:nvPr/>
          </p:nvPicPr>
          <p:blipFill>
            <a:blip r:embed="rId3"/>
            <a:stretch/>
          </p:blipFill>
          <p:spPr>
            <a:xfrm>
              <a:off x="1853640" y="2215440"/>
              <a:ext cx="2954520" cy="19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"/>
            <p:cNvSpPr/>
            <p:nvPr/>
          </p:nvSpPr>
          <p:spPr>
            <a:xfrm>
              <a:off x="1763640" y="1628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Munkahelyi gyűj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1908000" y="429264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dminisztratív terület – Papírhullad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70040" y="2696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GYÉB VESZÉLYES HULLADÉKO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IRODAI MUNKÁK SORÁ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Picture 8" descr="12-44-08-248-00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03435"/>
          <p:cNvPicPr/>
          <p:nvPr/>
        </p:nvPicPr>
        <p:blipFill>
          <a:blip r:embed="rId2"/>
          <a:stretch/>
        </p:blipFill>
        <p:spPr>
          <a:xfrm>
            <a:off x="1042920" y="1700280"/>
            <a:ext cx="1462320" cy="24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2543-150x150"/>
          <p:cNvPicPr/>
          <p:nvPr/>
        </p:nvPicPr>
        <p:blipFill>
          <a:blip r:embed="rId3"/>
          <a:stretch/>
        </p:blipFill>
        <p:spPr>
          <a:xfrm>
            <a:off x="6372360" y="1844640"/>
            <a:ext cx="222084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7"/>
          <p:cNvSpPr/>
          <p:nvPr/>
        </p:nvSpPr>
        <p:spPr>
          <a:xfrm>
            <a:off x="2987640" y="170028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Festékpatronok, Tonerek, elektronikai hulladé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71640" y="4292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le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zövegdoboz 10"/>
          <p:cNvSpPr/>
          <p:nvPr/>
        </p:nvSpPr>
        <p:spPr>
          <a:xfrm>
            <a:off x="6255000" y="42210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zámítástechnika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rodai beren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ESZÉLYES ANYAGOK JELÖLÉS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426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Környezetre ártal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Tűzveszél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Irrit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ma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rritatív"/>
          <p:cNvPicPr/>
          <p:nvPr/>
        </p:nvPicPr>
        <p:blipFill>
          <a:blip r:embed="rId1"/>
          <a:stretch/>
        </p:blipFill>
        <p:spPr>
          <a:xfrm>
            <a:off x="4643280" y="1643040"/>
            <a:ext cx="17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örnyezeti veszély"/>
          <p:cNvPicPr/>
          <p:nvPr/>
        </p:nvPicPr>
        <p:blipFill>
          <a:blip r:embed="rId2"/>
          <a:stretch/>
        </p:blipFill>
        <p:spPr>
          <a:xfrm>
            <a:off x="7215120" y="1500120"/>
            <a:ext cx="1695600" cy="21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űzveszélyes"/>
          <p:cNvPicPr/>
          <p:nvPr/>
        </p:nvPicPr>
        <p:blipFill>
          <a:blip r:embed="rId3"/>
          <a:stretch/>
        </p:blipFill>
        <p:spPr>
          <a:xfrm>
            <a:off x="6929280" y="3857760"/>
            <a:ext cx="1704960" cy="215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Maró"/>
          <p:cNvPicPr/>
          <p:nvPr/>
        </p:nvPicPr>
        <p:blipFill>
          <a:blip r:embed="rId4"/>
          <a:stretch/>
        </p:blipFill>
        <p:spPr>
          <a:xfrm>
            <a:off x="4357800" y="400068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571680" y="36432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HA LEHET HELYETTESÍTENI K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928800" y="51436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somagolása: veszélyes hulladé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0" y="865440"/>
            <a:ext cx="7867080" cy="53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TÁJÉKOZTATÁS FONTOSSÁG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999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66920" y="1699920"/>
            <a:ext cx="15714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www.rokastyle.hu/kollekcio/ftp/2009_02_12_17h52m15s.jpg"/>
          <p:cNvPicPr/>
          <p:nvPr/>
        </p:nvPicPr>
        <p:blipFill>
          <a:blip r:embed="rId1"/>
          <a:srcRect l="0" t="0" r="0" b="46133"/>
          <a:stretch/>
        </p:blipFill>
        <p:spPr>
          <a:xfrm>
            <a:off x="971640" y="2349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206" name="Szövegdoboz 6"/>
          <p:cNvSpPr/>
          <p:nvPr/>
        </p:nvSpPr>
        <p:spPr>
          <a:xfrm>
            <a:off x="7008480" y="17002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leví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ellékelt kép:"/>
          <p:cNvPicPr/>
          <p:nvPr/>
        </p:nvPicPr>
        <p:blipFill>
          <a:blip r:embed="rId2"/>
          <a:stretch/>
        </p:blipFill>
        <p:spPr>
          <a:xfrm>
            <a:off x="2340000" y="4836960"/>
            <a:ext cx="2419200" cy="1887840"/>
          </a:xfrm>
          <a:prstGeom prst="rect">
            <a:avLst/>
          </a:prstGeom>
          <a:ln w="0">
            <a:noFill/>
          </a:ln>
        </p:spPr>
      </p:pic>
      <p:sp>
        <p:nvSpPr>
          <p:cNvPr id="208" name="Szövegdoboz 8"/>
          <p:cNvSpPr/>
          <p:nvPr/>
        </p:nvSpPr>
        <p:spPr>
          <a:xfrm>
            <a:off x="3126240" y="4437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á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retronom.hu/files/images/K%C3%A9p(29).preview.jpg"/>
          <p:cNvPicPr/>
          <p:nvPr/>
        </p:nvPicPr>
        <p:blipFill>
          <a:blip r:embed="rId3"/>
          <a:stretch/>
        </p:blipFill>
        <p:spPr>
          <a:xfrm>
            <a:off x="6227640" y="22766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www.itbusiness.hu/data/cms103432/internet_kicsi.jpg"/>
          <p:cNvPicPr/>
          <p:nvPr/>
        </p:nvPicPr>
        <p:blipFill>
          <a:blip r:embed="rId4"/>
          <a:stretch/>
        </p:blipFill>
        <p:spPr>
          <a:xfrm>
            <a:off x="3708360" y="2349360"/>
            <a:ext cx="22147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70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SZÖNÖM MEGTISZTELŐ FIGYELMÜ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1916280"/>
            <a:ext cx="4165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 földet nem nagyapáinktól örököltük, hanem unokáinktól kaptuk kölcs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01-fold"/>
          <p:cNvPicPr/>
          <p:nvPr/>
        </p:nvPicPr>
        <p:blipFill>
          <a:blip r:embed="rId1"/>
          <a:stretch/>
        </p:blipFill>
        <p:spPr>
          <a:xfrm>
            <a:off x="971640" y="292428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23240" y="538920"/>
            <a:ext cx="792396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ASSAN KÖZHE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 NAGYON IGAZ …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0160" y="64224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ÖRNYEZETÜNK ELEM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csillagok02"/>
          <p:cNvPicPr/>
          <p:nvPr/>
        </p:nvPicPr>
        <p:blipFill>
          <a:blip r:embed="rId1"/>
          <a:stretch/>
        </p:blipFill>
        <p:spPr>
          <a:xfrm>
            <a:off x="2411280" y="1628640"/>
            <a:ext cx="1613160" cy="215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oss2o1"/>
          <p:cNvPicPr/>
          <p:nvPr/>
        </p:nvPicPr>
        <p:blipFill>
          <a:blip r:embed="rId2"/>
          <a:stretch/>
        </p:blipFill>
        <p:spPr>
          <a:xfrm>
            <a:off x="5364000" y="1628640"/>
            <a:ext cx="230364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ikrobiológiai Olaj- és Zsírlebontá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235872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60304felszallo_madarak"/>
          <p:cNvPicPr/>
          <p:nvPr/>
        </p:nvPicPr>
        <p:blipFill>
          <a:blip r:embed="rId5"/>
          <a:stretch/>
        </p:blipFill>
        <p:spPr>
          <a:xfrm>
            <a:off x="4284720" y="4149720"/>
            <a:ext cx="24480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128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Leveg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211640" y="38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z Élő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21164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Tal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1280" y="378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V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5760" y="590760"/>
            <a:ext cx="787140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ÁLLÍTHATATLAN NÖVEKED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bevolkerung"/>
          <p:cNvPicPr/>
          <p:nvPr/>
        </p:nvPicPr>
        <p:blipFill>
          <a:blip r:embed="rId1"/>
          <a:stretch/>
        </p:blipFill>
        <p:spPr>
          <a:xfrm>
            <a:off x="900000" y="2924280"/>
            <a:ext cx="2857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o-paulo_225x160"/>
          <p:cNvPicPr/>
          <p:nvPr/>
        </p:nvPicPr>
        <p:blipFill>
          <a:blip r:embed="rId2"/>
          <a:stretch/>
        </p:blipFill>
        <p:spPr>
          <a:xfrm>
            <a:off x="2124000" y="4365720"/>
            <a:ext cx="3167280" cy="225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900000" y="1557360"/>
            <a:ext cx="30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lapvető problé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népesedés é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sztelen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zövegdoboz 8"/>
          <p:cNvSpPr/>
          <p:nvPr/>
        </p:nvSpPr>
        <p:spPr>
          <a:xfrm>
            <a:off x="5580000" y="3068640"/>
            <a:ext cx="30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Óránként ~10.000 fővel nő Földünk népessége, és ezzel az amúgy természetes fogyasztás, és hulladék termelés káros folyamatokká vá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313140_2"/>
          <p:cNvPicPr/>
          <p:nvPr/>
        </p:nvPicPr>
        <p:blipFill>
          <a:blip r:embed="rId1"/>
          <a:srcRect l="0" t="11078" r="0" b="11412"/>
          <a:stretch/>
        </p:blipFill>
        <p:spPr>
          <a:xfrm>
            <a:off x="6227640" y="3645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ater-pollution"/>
          <p:cNvPicPr/>
          <p:nvPr/>
        </p:nvPicPr>
        <p:blipFill>
          <a:blip r:embed="rId2"/>
          <a:stretch/>
        </p:blipFill>
        <p:spPr>
          <a:xfrm>
            <a:off x="1116000" y="3933720"/>
            <a:ext cx="2879640" cy="27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ÍZ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6" descr="180px-Water_pollution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cid_Mine_Drainage_Impact"/>
          <p:cNvPicPr/>
          <p:nvPr/>
        </p:nvPicPr>
        <p:blipFill>
          <a:blip r:embed="rId4"/>
          <a:stretch/>
        </p:blipFill>
        <p:spPr>
          <a:xfrm>
            <a:off x="2916360" y="220500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995640" y="422100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dapest szennyvízének közel fele ömlik tisztítatlanul a Duná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84720" y="2276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elszíni és felszín alatti víz szennyezése, túlzott kitermel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8"/>
          <p:cNvSpPr/>
          <p:nvPr/>
        </p:nvSpPr>
        <p:spPr>
          <a:xfrm>
            <a:off x="250920" y="148428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fogyasztás, és túlzott hulladéktermelés a környezeti elemek mindegyikét ér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EVEGŐ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7" descr="traffic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50px-Air_"/>
          <p:cNvPicPr/>
          <p:nvPr/>
        </p:nvPicPr>
        <p:blipFill>
          <a:blip r:embed="rId2"/>
          <a:stretch/>
        </p:blipFill>
        <p:spPr>
          <a:xfrm>
            <a:off x="755640" y="4437000"/>
            <a:ext cx="3024360" cy="2013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780000" y="2997360"/>
            <a:ext cx="27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nergia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mage?id=96935&amp;rendTypeId=4"/>
          <p:cNvPicPr/>
          <p:nvPr/>
        </p:nvPicPr>
        <p:blipFill>
          <a:blip r:embed="rId3"/>
          <a:stretch/>
        </p:blipFill>
        <p:spPr>
          <a:xfrm>
            <a:off x="5940360" y="2637000"/>
            <a:ext cx="302436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ULLADÉKVÁL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waste_pile"/>
          <p:cNvPicPr/>
          <p:nvPr/>
        </p:nvPicPr>
        <p:blipFill>
          <a:blip r:embed="rId1"/>
          <a:stretch/>
        </p:blipFill>
        <p:spPr>
          <a:xfrm>
            <a:off x="4643280" y="1916280"/>
            <a:ext cx="3238560" cy="29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20070119szemetbal2"/>
          <p:cNvPicPr/>
          <p:nvPr/>
        </p:nvPicPr>
        <p:blipFill>
          <a:blip r:embed="rId2"/>
          <a:stretch/>
        </p:blipFill>
        <p:spPr>
          <a:xfrm>
            <a:off x="928800" y="1857240"/>
            <a:ext cx="365112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428760" y="4857840"/>
            <a:ext cx="44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esleges dolgok megvásár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övid termék-életci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vés újrahaszno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2680" y="590760"/>
            <a:ext cx="784116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ERGIAIGÉN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5" descr="image042"/>
          <p:cNvPicPr/>
          <p:nvPr/>
        </p:nvPicPr>
        <p:blipFill>
          <a:blip r:embed="rId1"/>
          <a:stretch/>
        </p:blipFill>
        <p:spPr>
          <a:xfrm>
            <a:off x="642960" y="1643040"/>
            <a:ext cx="4790880" cy="36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uszakicikk"/>
          <p:cNvPicPr/>
          <p:nvPr/>
        </p:nvPicPr>
        <p:blipFill>
          <a:blip r:embed="rId2"/>
          <a:stretch/>
        </p:blipFill>
        <p:spPr>
          <a:xfrm>
            <a:off x="5580000" y="1916280"/>
            <a:ext cx="2951280" cy="1769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435640" y="386064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éges mennyiségű fosszilis energia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9080" y="658440"/>
            <a:ext cx="80946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A FENNTARTHATÓ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Picture 4" descr="d3"/>
          <p:cNvPicPr/>
          <p:nvPr/>
        </p:nvPicPr>
        <p:blipFill>
          <a:blip r:embed="rId1"/>
          <a:stretch/>
        </p:blipFill>
        <p:spPr>
          <a:xfrm>
            <a:off x="714240" y="2500200"/>
            <a:ext cx="3168720" cy="271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1b"/>
          <p:cNvPicPr/>
          <p:nvPr/>
        </p:nvPicPr>
        <p:blipFill>
          <a:blip r:embed="rId2"/>
          <a:stretch/>
        </p:blipFill>
        <p:spPr>
          <a:xfrm>
            <a:off x="4932360" y="242100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57160" y="1857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ssz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214960" y="17859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ó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8:46:26Z</dcterms:created>
  <dc:creator>Gizella</dc:creator>
  <dc:description/>
  <dc:language>en-US</dc:language>
  <cp:lastModifiedBy>Gizella</cp:lastModifiedBy>
  <dcterms:modified xsi:type="dcterms:W3CDTF">2010-08-23T07:41:14Z</dcterms:modified>
  <cp:revision>57</cp:revision>
  <dc:subject/>
  <dc:title>ÚJ INFORMÁCIÓ-BIZTONSÁGI IRÁNYÍTÁSI RENDSZERSZABVÁNY</dc:title>
</cp:coreProperties>
</file>